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EFF-63F7-4283-9FF9-A044AD71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8FF-B93C-4478-93C1-76AF0310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E2E-58A0-4C1B-886B-ABA9650E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B0F-7BE3-43A2-9792-9A24D4B0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853D-5436-4AA7-B955-E2A7B160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4124-6BBC-4C70-BA78-20F5DBA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44F1-F84D-4369-9057-57132D3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944B-35D6-4C59-A166-8A2851F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C9B-609F-4E98-9012-56BC086E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BB0-31A0-48E4-8CAF-78B2433F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7C3-3655-4624-A723-CC700FB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4CB-A1A0-4F0D-B40A-5F965501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8511-A9BB-447E-AD33-32445B8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1858-0527-4D2C-94FA-6648568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67C-7D65-4DA8-AA57-E3639027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9AB2-AF5C-4B02-BB34-021E1085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BE33-F1CE-48D2-83F0-9512AA91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955-18FB-4D0A-89C8-70AA8D13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7B7-4F44-4BA3-A218-F3D2AA27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4FB-CE32-4A80-AF17-D3FC027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6BD-5B0E-4245-8091-8C34AE8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C3F-2D9A-4FD2-8CDE-A5C3107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B17-4FF3-43A7-8B6A-1644991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E55-04A7-4568-A6D1-2F9AA2B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AA7-7E80-49B4-9464-E139A3D0D010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153-B59A-46A6-A164-06A5313EAFDC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ki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ite utilizatorilor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îşi deschidă un co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i apoi să posteze comentarii pe anumite teme sau să propună alte teme celorlaţi utilizato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materiale realizate de mine gen o prezentare power point, pentru a putea fi vizualizată mult mai facil de catre colegii m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loborez mai bine cu colegii de grupa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 realizarea unui material com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ma ajuta pe mine ca si profesor in facilitatea transmiterii unor informatii, elevilor cu dizabilitati psih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laborez on-line cu colegii de grup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 interactiv şi mult mai facil decâ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miterea informatiilor p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 postez parerea lega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o anumi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blem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e b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ateriale realizate de mine pe b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t sa utilizez mai bine un blog pentru activitatea didactic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a imi fac propiul meu blo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colaborez cu mai multe persoane într-un timp foarte scu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blog trebuie sa aiba un continut original, iar acestea sa fie updatate cat mai frecvent pentru ca sa fie interesante pentru cinev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imbarea mult mai ușoră a părerilor despre o anumită problemă, părere postată pe un site de colabo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ateriale realizate de mine p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ate fi utilizat un site de colaborare in actvitatea dida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colaborez cu mai multe persoane într-un timp foarte scu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Scoala 2</cp:lastModifiedBy>
  <dcterms:modified xsi:type="dcterms:W3CDTF">2011-01-12T17:38:09Z</dcterms:modified>
  <cp:revision>8</cp:revision>
  <dc:subject/>
  <dc:title>Compuşi hidroxilici</dc:title>
</cp:coreProperties>
</file>